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3AE8-508C-43E2-B2BD-98C5D100B9D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tology: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本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F462-6923-425B-845C-B72AD729D81B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2F2-3FF6-4F26-8020-4C783778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ABC-8344-42BF-BA7C-820BC7C9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D28-78BB-4F02-BA96-56B51CAF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1F1-3DDA-4C34-A7AB-765E57DC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524-21BB-4004-BF23-B336F3C3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B4F-0027-4E22-BB26-82B5B588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E41-D8B3-4F4C-AD1A-22565064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DFB-8346-4F64-B835-F8917CF6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134-DA2F-48ED-812E-7993844A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9AA-1372-4DE0-9946-2722C4C3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7EF-8A60-49E8-B7B7-686112D2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EA8-AD4A-4A55-B923-684ADA5D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0497-BDA1-4212-B29F-4B9901AA0A4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phor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Language Live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: Journe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00040" y="928800"/>
          <a:ext cx="5786640" cy="5500440"/>
        </p:xfrm>
        <a:graphic>
          <a:graphicData uri="http://schemas.openxmlformats.org/drawingml/2006/table">
            <a:tbl>
              <a:tblPr/>
              <a:tblGrid>
                <a:gridCol w="578664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ou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ravelers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re in a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hicle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raveling with common destinations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vehicle encounters some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mpedimen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get stuck. If the travelers do nothing, they will not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ach their destinations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There are a limited alternatives for actions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try to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t the vehicle moving again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ither by fixing it or getting it past the impediment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remain in the nonfunctional vehicle and give up reaching their destinations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an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bandon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vehicle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內容版面配置區 2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: Lov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071720"/>
          <a:ext cx="6043680" cy="5379840"/>
        </p:xfrm>
        <a:graphic>
          <a:graphicData uri="http://schemas.openxmlformats.org/drawingml/2006/table">
            <a:tbl>
              <a:tblPr/>
              <a:tblGrid>
                <a:gridCol w="604368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v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overs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re in a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ove relationship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ursuing common life goals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relationship encounters some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fficult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which makes it nonfunctional. If they do nothing, they will not be able to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chieve their life goals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There are limited alternatives for action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try to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t it moving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ther by fixing it or getting it past the difficulty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remain in the nonfunctional relationship and give up on achieving their life goals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bandon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relationship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內容版面配置區 2"/>
          <p:cNvSpPr/>
          <p:nvPr/>
        </p:nvSpPr>
        <p:spPr>
          <a:xfrm>
            <a:off x="35712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57120" y="428760"/>
          <a:ext cx="4286160" cy="600048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ou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</a:t>
                      </a:r>
                      <a:r>
                        <a:rPr b="0" lang="en-US" sz="2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ravelers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re in a </a:t>
                      </a:r>
                      <a:r>
                        <a:rPr b="0" lang="en-US" sz="2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hicl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raveling with common destinations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vehicle encounters some </a:t>
                      </a:r>
                      <a:r>
                        <a:rPr b="0" lang="en-US" sz="2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mpedimen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get stuck. If the travelers do nothing, they will not </a:t>
                      </a:r>
                      <a:r>
                        <a:rPr b="0" lang="en-US" sz="2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ach their destinations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There are a limited alternatives for actions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try to </a:t>
                      </a:r>
                      <a:r>
                        <a:rPr b="0" lang="en-US" sz="2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t the vehicle moving again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ither by fixing it or getting it past the impedim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remain in the nonfunctional vehicle and give up reaching their destination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an </a:t>
                      </a:r>
                      <a:r>
                        <a:rPr b="0" lang="en-US" sz="2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bandon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vehicle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643280" y="428760"/>
          <a:ext cx="4286520" cy="6027480"/>
        </p:xfrm>
        <a:graphic>
          <a:graphicData uri="http://schemas.openxmlformats.org/drawingml/2006/table">
            <a:tbl>
              <a:tblPr/>
              <a:tblGrid>
                <a:gridCol w="42865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over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re in a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ove relationshi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ursuing common life goal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relationship encounters some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fficult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which makes it nonfunctional. If they do nothing, they will not be able to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chieve their life goal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There are limited alternatives for ac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try to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t it moving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ther by fixing it or getting it past the difficult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remain in the nonfunctional relationship and give up on achieving their life goal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can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band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relationship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內容版面配置區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004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understand the following sentences now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i="1" lang="en-US" sz="2800" spc="-1" strike="noStrike">
                <a:solidFill>
                  <a:srgbClr val="009900"/>
                </a:solidFill>
                <a:latin typeface="Calibri"/>
              </a:rPr>
              <a:t>Love is a journe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how far we’ve c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bee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 long, bumpy roa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’t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turn bac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relationship is a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dead-end stre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eed to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spin our wheel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vercome th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’ve gotte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off the tr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marriage i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on the rock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may have to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bail out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relationshi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relationship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esn’t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go anywhe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metaphorical map for the sentence “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Her voice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s full of 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money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 voic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s a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e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haracteristics of mone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’s the relationship btw MONEY and a PERS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圓角化對角線角落矩形 6"/>
          <p:cNvSpPr/>
          <p:nvPr/>
        </p:nvSpPr>
        <p:spPr>
          <a:xfrm>
            <a:off x="5500800" y="3857760"/>
            <a:ext cx="1357200" cy="6429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圓角化對角線角落矩形 7"/>
          <p:cNvSpPr/>
          <p:nvPr/>
        </p:nvSpPr>
        <p:spPr>
          <a:xfrm>
            <a:off x="857160" y="4357800"/>
            <a:ext cx="1357560" cy="6429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字方塊 8"/>
          <p:cNvSpPr/>
          <p:nvPr/>
        </p:nvSpPr>
        <p:spPr>
          <a:xfrm>
            <a:off x="5357880" y="4572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arget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字方塊 9"/>
          <p:cNvSpPr/>
          <p:nvPr/>
        </p:nvSpPr>
        <p:spPr>
          <a:xfrm>
            <a:off x="785880" y="50720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urce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Metaphor to Show Emo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article 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metaphorical expressions used in this article. Circle those express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categorize source domains used to describe the concep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ng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ger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make my bloo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oi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mm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w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 m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e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 got all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eamed 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had reached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oiling po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in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他氣得火冒三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他憋了一肚子氣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心中的怒氣終於爆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他脾氣很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他怒氣沖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字版面配置區 7"/>
          <p:cNvSpPr/>
          <p:nvPr/>
        </p:nvSpPr>
        <p:spPr>
          <a:xfrm>
            <a:off x="500040" y="5143680"/>
            <a:ext cx="404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GER IS THE HEAT OF A 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FLU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N A CONTAI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字版面配置區 7"/>
          <p:cNvSpPr/>
          <p:nvPr/>
        </p:nvSpPr>
        <p:spPr>
          <a:xfrm>
            <a:off x="4643280" y="52894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GER IS THE HOT 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GA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N A CONTAI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domain: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HEATED FLUI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HOT G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domain: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tainer is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at of fluid/gas is the a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in container is internal pressure in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GER IS HEA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9900"/>
                </a:solidFill>
                <a:latin typeface="Vivaldi"/>
              </a:rPr>
              <a:t>Shall I compare you to a summer's day?</a:t>
            </a:r>
            <a:br>
              <a:rPr sz="2700"/>
            </a:br>
            <a:r>
              <a:rPr b="0" i="1" lang="en-US" sz="2700" spc="-1" strike="noStrike">
                <a:solidFill>
                  <a:srgbClr val="009900"/>
                </a:solidFill>
                <a:latin typeface="Vivaldi"/>
              </a:rPr>
              <a:t>You are more lovely and more constant</a:t>
            </a:r>
            <a:r>
              <a:rPr b="0" lang="en-US" sz="2700" spc="-1" strike="noStrike">
                <a:solidFill>
                  <a:srgbClr val="009900"/>
                </a:solidFill>
                <a:latin typeface="Vivaldi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Rough winds shake the beloved buds of Ma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And summer is far too short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At times the sun is too hot,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Or often goes behind the clouds;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And everything beautiful sometime will lose its beauty,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By misfortune or by nature's planned out course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But your youth shall not fade,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Nor will you lose the beauty that you possess;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Nor will death claim you for his own,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Because in my eternal verse you will live forever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So long as there are people on this earth,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ivaldi"/>
              </a:rPr>
              <a:t>So long will this poem live on, making you immort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lliam Shakespeare, Sonnet 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metaphorical mapping for ANGER IS HEATED FLUID IN THE CONTAI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ger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glis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ose a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flammat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mar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w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reathing fi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r insincere apology jus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dded fuel to the fi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indl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y ir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y, am I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urned 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mok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as pouring out of his ea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in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別惹我發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這麼做是在火上加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他大動肝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他壓不住心頭怒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他氣得火冒三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他氣得七竅生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domain: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F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domain: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e is ang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use of the fire is the cause of the ang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sumed object is the angry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GER IS FI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metaphorical mapping for ANGER IS FI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0040" y="2714760"/>
          <a:ext cx="8215200" cy="1722240"/>
        </p:xfrm>
        <a:graphic>
          <a:graphicData uri="http://schemas.openxmlformats.org/drawingml/2006/table">
            <a:tbl>
              <a:tblPr/>
              <a:tblGrid>
                <a:gridCol w="4108320"/>
                <a:gridCol w="410688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an experience of being very angry? Please describe the experience. Show your anger as much and vivid as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etaph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ld-day definition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nove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poetic linguistic express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here one or more words for a concept are used outside of their normal conventional meaning to express a similar concep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emporary definition: 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conceptual mechanism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which we understand and structure one domain of experience in terms of another domain of a different ki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an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cept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language of though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the way we conceptualize one mental domain in terms of an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Cross-domain mapp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onceptual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s between difference domains are constructed based on people’s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conceptions of daily life experien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 our everyday behavior reflects our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metaphorical understanding of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Types of Metaphor can be Used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onymy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轉喻用法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gure of speech in which one word or phras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is substitu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another with which it is closely associ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She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is just a 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pretty face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The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 pen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s mightier than the 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sword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Her voice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s full of 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money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e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直喻用法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明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gure of speech in which two fundamentally unlike things are explicitly compared, usually in a phrase introduced by 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The sun was 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like a glowing ball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of fire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My love is </a:t>
            </a: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like a red, red rose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40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phorical expression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隱喻用法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also offer figurative comparisons, but these ar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impli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ather than introduced b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Calibri"/>
              </a:rPr>
              <a:t>Time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rushes toward us with its hospital tray of infinitely varied narcotics, even while it is preparing us for its inevitably fatal ope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ennessee Williams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Think of a Metaph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phorical mapp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Love is a jour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Look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far we’ve co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We ar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t the crossro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We can’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urn bac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We may hav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o our separate 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This relationship isn’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o anyw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may hav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ail 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relationshi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2:51:20Z</dcterms:created>
  <dc:creator>Windows 使用者</dc:creator>
  <dc:description/>
  <dc:language>en-US</dc:language>
  <cp:lastModifiedBy>teacher</cp:lastModifiedBy>
  <dcterms:modified xsi:type="dcterms:W3CDTF">2009-04-20T08:20:25Z</dcterms:modified>
  <cp:revision>75</cp:revision>
  <dc:subject/>
  <dc:title>投影片 1</dc:title>
</cp:coreProperties>
</file>